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F376-7214-482E-986E-BA54CD61F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DB8-6C3F-4EA6-8BF1-8C9C07FDDF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ABC-FC07-4725-9371-68A19773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1E1-2790-47CB-B114-41F8597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A78-8F80-4D26-B9BA-A346F0BE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BF7-80B9-43C2-8400-18AEF9F3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CB2-8495-4549-BA02-9282DCFB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788-ACF8-4E24-9DA3-29492D00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235-344A-4560-83B3-2DB66593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8F0-9647-40A7-9C7D-1EBD4485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81C-9EAC-42DD-9BBD-978B6B82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6FA-8BF9-462F-9480-DB3CD8F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078-C487-4E9B-9CEE-751E0D1A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358-3628-4B56-8B19-530BA2C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9236-637E-45C6-B080-484229E3DDA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30"/>
          <p:cNvSpPr/>
          <p:nvPr/>
        </p:nvSpPr>
        <p:spPr>
          <a:xfrm>
            <a:off x="1523880" y="202392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33"/>
          <p:cNvSpPr/>
          <p:nvPr/>
        </p:nvSpPr>
        <p:spPr>
          <a:xfrm>
            <a:off x="1676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34"/>
          <p:cNvSpPr/>
          <p:nvPr/>
        </p:nvSpPr>
        <p:spPr>
          <a:xfrm>
            <a:off x="914400" y="14479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ообразование учителей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еб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 современному урок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рамках  внедрения  ФГ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35"/>
          <p:cNvSpPr/>
          <p:nvPr/>
        </p:nvSpPr>
        <p:spPr>
          <a:xfrm>
            <a:off x="3355920" y="4025520"/>
            <a:ext cx="48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a023"/>
                </a:solidFill>
                <a:latin typeface="Arial"/>
              </a:rPr>
              <a:t>Настоящий 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a023"/>
                </a:solidFill>
                <a:latin typeface="Arial"/>
              </a:rPr>
              <a:t>начинается не со зв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a02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da023"/>
                </a:solidFill>
                <a:latin typeface="Arial"/>
              </a:rPr>
              <a:t>а задолго до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9662625477fb"/>
          <p:cNvPicPr/>
          <p:nvPr/>
        </p:nvPicPr>
        <p:blipFill>
          <a:blip r:embed="rId2"/>
          <a:stretch/>
        </p:blipFill>
        <p:spPr>
          <a:xfrm>
            <a:off x="6535800" y="5221440"/>
            <a:ext cx="26686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который развивает у детей креативное мышл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который воспитывает думающего ученика-интеллектуа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который предполагает сотрудничество, взаимопонимание, атмосферу радости и увлеченнос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04920" y="2178360"/>
            <a:ext cx="86104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a2b1e"/>
                </a:solidFill>
                <a:latin typeface="Arial"/>
              </a:rPr>
              <a:t>Урок должен быть пронизан творче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a2b1e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aa2b1e"/>
                </a:solidFill>
                <a:latin typeface="Arial"/>
              </a:rPr>
              <a:t>и вместе с тем оставаться ур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ff"/>
                </a:solidFill>
                <a:latin typeface="Arial"/>
              </a:rPr>
              <a:t>                      </a:t>
            </a:r>
            <a:r>
              <a:rPr b="1" lang="ru-RU" sz="3000" spc="-1" strike="noStrike">
                <a:solidFill>
                  <a:srgbClr val="0066ff"/>
                </a:solidFill>
                <a:latin typeface="Arial"/>
              </a:rPr>
              <a:t>С.И.Гес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ученик"/>
          <p:cNvPicPr/>
          <p:nvPr/>
        </p:nvPicPr>
        <p:blipFill>
          <a:blip r:embed="rId1"/>
          <a:stretch/>
        </p:blipFill>
        <p:spPr>
          <a:xfrm>
            <a:off x="693432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учитель"/>
          <p:cNvPicPr/>
          <p:nvPr/>
        </p:nvPicPr>
        <p:blipFill>
          <a:blip r:embed="rId2"/>
          <a:stretch/>
        </p:blipFill>
        <p:spPr>
          <a:xfrm>
            <a:off x="152280" y="152280"/>
            <a:ext cx="20574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едагогического сове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выступивших принять к свед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самообразование учителей по ведению уроков  в  рамках внедрения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уроки в соответствии с  требованиями к современному уроку в рамках внедрения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амятку учителя «Требования к современному уроку в рамках внедрения ФГОС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ть уроки коллег, владеющих методикой преподавания в соответствии с основными требованиями современного урока в рамках внедрения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ти планомерную и интенсивную работу по подготовке обучающихся к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выполнения решений педагогического совета провести не позднее  мая 2014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вестка педагогического совета</a:t>
            </a:r>
            <a:br>
              <a:rPr sz="24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Требования к современному уроку в рамках внедрения ФГОС»</a:t>
            </a:r>
            <a:br>
              <a:rPr sz="2800"/>
            </a:b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6 марта 2014 года</a:t>
            </a:r>
            <a:br>
              <a:rPr sz="2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современному урок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рамках  внедрения  ФГОС</a:t>
            </a:r>
            <a:br>
              <a:rPr sz="3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13712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лясевой С.А., заместитель директора по метод. рабо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маловой Г.Р., учитель татарского языка и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айровой З.Д., 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дуллиной Э.Ф., учитель татарского языка и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евой Э.Р., учитель татарского языка и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евой Р.Н., учитель русского языка и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овиковой Л.Н., 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качества  знаний и успеваемости учащихс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3 четверть 2013-14 учебного год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я заместителей директора Шариповой Г.А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севой  С.А. и Махмутовой Г.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дготовка к  ЕГЭ и ГИ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 заместителя директора  Махмутовой Г.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ожения о  школьном сайте МБОУ «СО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№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» и  «Положения о дежурстве  в  МБОУ «СОШ №7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зова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жизн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бразова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ротяжен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й жизн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2b1e"/>
                </a:solidFill>
                <a:latin typeface="Arial"/>
              </a:rPr>
              <a:t>Что способствует успеху урок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9140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хорошее знание материал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ое самочувстви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думанный план уро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увство «физической» раскованност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вободы  на урок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авильный выбор методов обучен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нообразие методов обучен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нимательность изложен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ярко выраженное эмоциональное отношени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ителя к излагаемому материал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гатство интонаций, выразительн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имика, образная  жестикуляция учител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раженная заинтересованность учител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успехе учени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с использование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2133720"/>
            <a:ext cx="83059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на котором осуществляется индивидуальный подход к каждому ученику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содержащий разные виды деятельно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на котором  ученику должно быть комфорт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на котором деятельность должна стимулировать развитие познавательной активности учени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Светлана</cp:lastModifiedBy>
  <dcterms:modified xsi:type="dcterms:W3CDTF">2014-12-05T16:08:56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